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E06-6368-4974-BDFF-19018307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B2B-C64A-448C-9C84-C69984F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E80-4971-4993-A54C-4F832575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534-43E7-4089-AC1C-6EFDFA6B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7EF-A5E1-4EFA-9CC1-FA360B99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D805-9192-4E04-9851-9180913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9D50-ABFB-4B27-9C81-BFEFED2F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0264-D95F-4B48-944C-A3E3E34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1996-B8FE-45C5-9CDA-57E6FB02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8D2-4446-499E-A13E-C19DE7C1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5A8-2D37-48D4-907B-938A37D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AA6-BAF0-467F-A247-5591D02F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06F7-C732-4F08-9855-178F33E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351-FE20-4702-A1D9-B78958B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4768-6BBE-4C95-92EE-F7D0908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0BE-E278-4AC7-9C8D-CF8EE707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798-1A2C-4A7D-98BC-FAFDF885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08F-1BD4-4C5C-9DAC-8165531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717-AD52-46E4-B738-4C2F769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3D8-25A2-4821-B89E-77C7BA5A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D65-659C-4130-AB48-930CB15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C5B-72C1-4C84-9EC0-D71291D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632-288F-4EBB-8C06-2347C4D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94D-6BD5-4BC9-B66C-2FF02C7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E597-D89F-4928-A631-37A3C63921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A882-8953-48C3-BA08-F7242EC8FD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ndering In The Wildern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15:32 – 22: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bbath-breaker Put To Death – 15:32-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sels On The Garments – 15:37-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ellion of Korah, Dathan, Abiram -16:1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Moses And Aa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pens The Earth To Swallow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ellion of the Israelites -16:41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Moses and Aa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lagues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’s Rod That Budded – 17:1 – 18: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rmation of God’s Choice of Pri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riam Dies – 20: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s of Meribah – 20:2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es Asks Permission to Cross Edom’s Territory – 20:14-2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est Den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th of Aaron – 20:22-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ttle With King Arad – 21:1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ue of the Fiery Serpents – 21:4-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pent On Po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Sin &amp; Salvation in Chr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ey To Mount Pisgah – 21:10-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 Sihon, King of Amorites – 21:21-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 Og, King of Bashan – 21:33-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l Outline 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Makes A Cove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02:04Z</dcterms:created>
  <dc:creator>Terry W. Benton</dc:creator>
  <dc:description/>
  <dc:language>en-US</dc:language>
  <cp:lastModifiedBy>Terry W. Benton</cp:lastModifiedBy>
  <dcterms:modified xsi:type="dcterms:W3CDTF">2004-11-30T18:49:46Z</dcterms:modified>
  <cp:revision>3</cp:revision>
  <dc:subject/>
  <dc:title>Wandering In The Wilderness</dc:title>
</cp:coreProperties>
</file>